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13.jpeg" ContentType="image/jpeg"/>
  <Override PartName="/ppt/media/image8.jpeg" ContentType="image/jpeg"/>
  <Override PartName="/ppt/media/image26.jpeg" ContentType="image/jpeg"/>
  <Override PartName="/ppt/media/image5.jpeg" ContentType="image/jpeg"/>
  <Override PartName="/ppt/media/image4.wmf" ContentType="image/x-wmf"/>
  <Override PartName="/ppt/media/image10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.wmf" ContentType="image/x-wmf"/>
  <Override PartName="/ppt/media/image15.jpeg" ContentType="image/jpeg"/>
  <Override PartName="/ppt/media/image11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1.wmf" ContentType="image/x-wmf"/>
  <Override PartName="/ppt/media/image14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2.png" ContentType="image/png"/>
  <Override PartName="/ppt/media/image24.png" ContentType="image/png"/>
  <Override PartName="/ppt/media/image25.jpeg" ContentType="image/jpeg"/>
  <Override PartName="/ppt/media/image29.png" ContentType="image/png"/>
  <Override PartName="/ppt/media/image2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1CD3-28AC-4F54-BF81-F9CB46E67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spholipid bi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other molecules in membra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C skeleton, different functional grou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e of same elements as carbohydrates but very different structure/ proportions &amp; therefore very different biological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k at structure… What makes them hydrophobi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functional group = carboxy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G FAT molecule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lling the water out to free up the 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happens when you add oil to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is there a lot of energy stored in fat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g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s of bonds of stored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 why are we attracted to eating f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our ancestors on the Serengeti Plain &amp; during the Ice Age. Was eating fat an advant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ly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ly plant lip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“natural” peanut but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s of unsaturated fa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il separates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ies want to make their product easier to u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p the oil from separat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 oil solid at room tem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drogenate it = chemically alter to saturate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 nutr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6F67-E78B-45DB-B7D1-CD809F9DA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6FBC-D1E8-4B86-B595-2E3EB99F7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F324-55D3-4150-8DEA-37A14E47A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7F3B-4361-44CA-8A09-0C5B21B1A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FE7F-1AE0-4114-8E7B-6315499A1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F02C-B40B-458E-B505-78A951BBF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B71A-5064-48FB-A4CC-DBA3FCBD5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F117-D318-43C1-90B2-13A4A3CF0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9E12-B486-4C01-8E4C-6626895F1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E007-8B43-4E4D-B738-711E4D691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10C5-08CD-4302-8E7D-A17979A43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7653-24BC-46D7-94E0-8EC5810D0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1D1E-6435-43C5-AC29-6AEC3951408F}" type="slidenum">
              <a:rPr b="1" lang="en-US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51" name="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5" name="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pids: Fats &amp; Oil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87320" y="1371600"/>
            <a:ext cx="3175200" cy="2540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343400" y="1344600"/>
            <a:ext cx="4572000" cy="258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197840" y="4229280"/>
            <a:ext cx="1717560" cy="2476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38080" y="4191120"/>
            <a:ext cx="2476800" cy="2278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657600" y="4267080"/>
            <a:ext cx="3048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aturated vs. unsaturated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6492"/>
          <a:stretch/>
        </p:blipFill>
        <p:spPr>
          <a:xfrm>
            <a:off x="762120" y="1752480"/>
            <a:ext cx="8164440" cy="3178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0" t="75689" r="60301" b="6492"/>
          <a:stretch/>
        </p:blipFill>
        <p:spPr>
          <a:xfrm>
            <a:off x="797040" y="4881600"/>
            <a:ext cx="3241440" cy="604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rcRect l="0" t="75689" r="60301" b="6492"/>
          <a:stretch/>
        </p:blipFill>
        <p:spPr>
          <a:xfrm>
            <a:off x="797040" y="5415120"/>
            <a:ext cx="3241440" cy="604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rcRect l="0" t="75689" r="60301" b="6492"/>
          <a:stretch/>
        </p:blipFill>
        <p:spPr>
          <a:xfrm>
            <a:off x="797040" y="5943600"/>
            <a:ext cx="3241440" cy="604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rcRect l="61204" t="69198" r="0" b="6492"/>
          <a:stretch/>
        </p:blipFill>
        <p:spPr>
          <a:xfrm>
            <a:off x="5638680" y="4967280"/>
            <a:ext cx="3168720" cy="824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rcRect l="61204" t="69198" r="0" b="6492"/>
          <a:stretch/>
        </p:blipFill>
        <p:spPr>
          <a:xfrm>
            <a:off x="5975280" y="5867280"/>
            <a:ext cx="3168720" cy="824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601280" y="129492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saturated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89360" y="1294920"/>
            <a:ext cx="27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unsaturated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14400" y="2666880"/>
            <a:ext cx="3595680" cy="3595680"/>
            <a:chOff x="914400" y="2666880"/>
            <a:chExt cx="3595680" cy="3595680"/>
          </a:xfrm>
        </p:grpSpPr>
        <p:sp>
          <p:nvSpPr>
            <p:cNvPr id="169" name=""/>
            <p:cNvSpPr/>
            <p:nvPr/>
          </p:nvSpPr>
          <p:spPr>
            <a:xfrm>
              <a:off x="914400" y="2666880"/>
              <a:ext cx="3595680" cy="3595680"/>
            </a:xfrm>
            <a:prstGeom prst="ellipse">
              <a:avLst/>
            </a:prstGeom>
            <a:noFill/>
            <a:ln w="3049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96960" y="3008160"/>
              <a:ext cx="2139480" cy="2927160"/>
            </a:xfrm>
            <a:prstGeom prst="line">
              <a:avLst/>
            </a:prstGeom>
            <a:ln w="3049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007960" y="3015720"/>
            <a:ext cx="4071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0" spc="-1" strike="noStrike">
                <a:solidFill>
                  <a:srgbClr val="006c01"/>
                </a:solidFill>
                <a:latin typeface="Wingdings"/>
                <a:ea typeface="Wingdings"/>
              </a:rPr>
              <a:t></a:t>
            </a:r>
            <a:endParaRPr b="0" lang="en-US" sz="37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0" r="32404" b="8571"/>
          <a:stretch/>
        </p:blipFill>
        <p:spPr>
          <a:xfrm>
            <a:off x="4091040" y="2660760"/>
            <a:ext cx="4849920" cy="41320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3152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lycerol + 2 fatty acids +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P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negatively charged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 flipH="1">
            <a:off x="221760" y="5557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>
            <a:off x="1105920" y="3591000"/>
            <a:ext cx="2469960" cy="2077920"/>
          </a:xfrm>
          <a:prstGeom prst="wedgeEllipseCallout">
            <a:avLst>
              <a:gd name="adj1" fmla="val 42990"/>
              <a:gd name="adj2" fmla="val 5083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t’s just like a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enguin…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 head at one end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&amp; a tai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t the other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in wate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ilic heads attracted to 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ydrophobic tails “hide” from H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n self-assemble into “bubbles”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ubble = “micelle”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n also form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bilay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rly evolutionary stage of cell?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27489" t="0" r="0" b="52806"/>
          <a:stretch/>
        </p:blipFill>
        <p:spPr>
          <a:xfrm>
            <a:off x="228600" y="4343400"/>
            <a:ext cx="4267080" cy="2446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rcRect l="29604" t="57006" r="0" b="8678"/>
          <a:stretch/>
        </p:blipFill>
        <p:spPr>
          <a:xfrm>
            <a:off x="4971960" y="5043600"/>
            <a:ext cx="3924360" cy="1633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54480" y="4477320"/>
            <a:ext cx="3419640" cy="459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ilaye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y is this importan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spholipids create a barrier in water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efine outside vs. insid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ell membra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35040" y="3327480"/>
            <a:ext cx="2903400" cy="241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873600" y="2889360"/>
            <a:ext cx="5105160" cy="382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42302" t="0" r="32674" b="11856"/>
          <a:stretch/>
        </p:blipFill>
        <p:spPr>
          <a:xfrm>
            <a:off x="254160" y="3029040"/>
            <a:ext cx="1158840" cy="2570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rcRect l="0" t="0" r="0" b="17560"/>
          <a:stretch/>
        </p:blipFill>
        <p:spPr>
          <a:xfrm>
            <a:off x="4343400" y="3192480"/>
            <a:ext cx="4699080" cy="36655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hospholipids &amp; cel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691992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hospholipids of cell membrane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double layer =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bilayer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hydrophilic heads on outsid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in contact with aqueous solution outside of cell and inside of cell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hydrophobic tails on insid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orm cor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orms barrier between cell &amp;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xternal environment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 flipH="1">
            <a:off x="221760" y="5557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H="1">
            <a:off x="1657440" y="4857840"/>
            <a:ext cx="2286000" cy="1239840"/>
          </a:xfrm>
          <a:prstGeom prst="wedgeEllipseCallout">
            <a:avLst>
              <a:gd name="adj1" fmla="val 65208"/>
              <a:gd name="adj2" fmla="val 2451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ell the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about soap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eroid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x: cholesterol, sex hormon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4 fused C rings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 steroids created by attach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ffer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functional group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ring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3200400" y="4038480"/>
            <a:ext cx="5753160" cy="26053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897280" y="4266360"/>
            <a:ext cx="167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cholesterol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olestero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mportant cell component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nimal cell membran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ecursor of all other stero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including vertebrate sex hormo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igh levels in blood may contribute to cardiovascular dise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228600" y="4703760"/>
            <a:ext cx="4419720" cy="2001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9718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olestero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27040" y="2043000"/>
            <a:ext cx="5738760" cy="430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413400" y="3089160"/>
            <a:ext cx="2616480" cy="13780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elps keep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ell membranes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fluid &amp; flexibl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6960" y="1384200"/>
            <a:ext cx="8008920" cy="5065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0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mportant component of cell membran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rom Cholesterol </a:t>
            </a:r>
            <a:r>
              <a:rPr b="1" lang="en-US" sz="3600" spc="-1" strike="noStrike">
                <a:solidFill>
                  <a:srgbClr val="660066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Sex Hormon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236760" y="1785960"/>
            <a:ext cx="5830920" cy="4995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52280" y="1898640"/>
            <a:ext cx="3048120" cy="22543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rcRect l="5666" t="0" r="9438" b="0"/>
          <a:stretch/>
        </p:blipFill>
        <p:spPr>
          <a:xfrm>
            <a:off x="0" y="4575240"/>
            <a:ext cx="3200400" cy="19749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10720" y="1230120"/>
            <a:ext cx="815364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What a big difference a few atoms can make!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21932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f116a"/>
                </a:solidFill>
                <a:latin typeface="Arial"/>
              </a:rPr>
              <a:t>Let’s build some </a:t>
            </a:r>
            <a:endParaRPr b="1" lang="en-US" sz="3800" spc="-1" strike="noStrike">
              <a:solidFill>
                <a:srgbClr val="0f116a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f116a"/>
                </a:solidFill>
                <a:latin typeface="Arial"/>
              </a:rPr>
              <a:t>Lipids!</a:t>
            </a:r>
            <a:endParaRPr b="1" lang="en-US" sz="56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50022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1683" r="52024" b="48674"/>
          <a:stretch/>
        </p:blipFill>
        <p:spPr>
          <a:xfrm>
            <a:off x="5407200" y="447840"/>
            <a:ext cx="3511440" cy="1949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322200"/>
            <a:ext cx="1792440" cy="2654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438280" y="4290840"/>
            <a:ext cx="3962520" cy="241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19320" y="24760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f116a"/>
                </a:solidFill>
                <a:latin typeface="Arial"/>
              </a:rPr>
              <a:t>Lipids</a:t>
            </a:r>
            <a:endParaRPr b="1" lang="en-US" sz="56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84600" y="3427920"/>
            <a:ext cx="326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energy storage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ipid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6880" y="138384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pids are composed of C, H, O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long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hydrocarbon chain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iverse grou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a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hospholip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teroid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o </a:t>
            </a:r>
            <a:r>
              <a:rPr b="1" lang="en-US" sz="3000" spc="-1" strike="noStrike" u="sng">
                <a:solidFill>
                  <a:srgbClr val="0f116a"/>
                </a:solidFill>
                <a:uFillTx/>
                <a:latin typeface="Arial"/>
              </a:rPr>
              <a:t>not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form polymer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big molecules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made of smaller subunit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Arial"/>
              </a:rPr>
              <a:t>not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a continuing chai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7200" r="0" b="0"/>
          <a:stretch/>
        </p:blipFill>
        <p:spPr>
          <a:xfrm>
            <a:off x="6999120" y="378000"/>
            <a:ext cx="2028960" cy="2690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4" name="" descr=""/>
          <p:cNvPicPr/>
          <p:nvPr/>
        </p:nvPicPr>
        <p:blipFill>
          <a:blip r:embed="rId2"/>
          <a:srcRect l="0" t="47402" r="9442" b="9600"/>
          <a:stretch/>
        </p:blipFill>
        <p:spPr>
          <a:xfrm>
            <a:off x="5113440" y="2911320"/>
            <a:ext cx="3951360" cy="210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5" name=""/>
          <p:cNvSpPr/>
          <p:nvPr/>
        </p:nvSpPr>
        <p:spPr>
          <a:xfrm>
            <a:off x="6342120" y="2432880"/>
            <a:ext cx="64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at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t subunit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tructure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ycerol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3C alcohol)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atty aci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65883"/>
          <a:stretch/>
        </p:blipFill>
        <p:spPr>
          <a:xfrm>
            <a:off x="1600200" y="3429000"/>
            <a:ext cx="6477120" cy="2482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12400" y="5866200"/>
            <a:ext cx="3414600" cy="459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ehydration synthesi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438280"/>
            <a:ext cx="77724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atty acid = </a:t>
            </a:r>
            <a:br>
              <a:rPr sz="2400"/>
            </a:b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long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C “tail” with COOH group at “head”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720800" y="3343320"/>
            <a:ext cx="2165400" cy="1650960"/>
            <a:chOff x="1720800" y="3343320"/>
            <a:chExt cx="2165400" cy="1650960"/>
          </a:xfrm>
        </p:grpSpPr>
        <p:sp>
          <p:nvSpPr>
            <p:cNvPr id="122" name=""/>
            <p:cNvSpPr/>
            <p:nvPr/>
          </p:nvSpPr>
          <p:spPr>
            <a:xfrm>
              <a:off x="1720800" y="3343320"/>
              <a:ext cx="2165400" cy="165096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48760" y="4293360"/>
              <a:ext cx="139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ilding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riacylglycero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3 fatty acids linked to glycerol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ster linkage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= between OH &amp; COOH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40718" r="8536" b="3420"/>
          <a:stretch/>
        </p:blipFill>
        <p:spPr>
          <a:xfrm>
            <a:off x="1981080" y="2874960"/>
            <a:ext cx="558180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47402" r="9442" b="9600"/>
          <a:stretch/>
        </p:blipFill>
        <p:spPr>
          <a:xfrm>
            <a:off x="2189160" y="3524400"/>
            <a:ext cx="5608800" cy="2992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28" name="" descr=""/>
          <p:cNvPicPr/>
          <p:nvPr/>
        </p:nvPicPr>
        <p:blipFill>
          <a:blip r:embed="rId2"/>
          <a:srcRect l="0" t="0" r="0" b="66003"/>
          <a:stretch/>
        </p:blipFill>
        <p:spPr>
          <a:xfrm>
            <a:off x="2209680" y="1193760"/>
            <a:ext cx="5405400" cy="2063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ehydration synthe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06800" y="3289320"/>
            <a:ext cx="1861920" cy="1419120"/>
            <a:chOff x="2206800" y="3289320"/>
            <a:chExt cx="1861920" cy="1419120"/>
          </a:xfrm>
        </p:grpSpPr>
        <p:sp>
          <p:nvSpPr>
            <p:cNvPr id="131" name=""/>
            <p:cNvSpPr/>
            <p:nvPr/>
          </p:nvSpPr>
          <p:spPr>
            <a:xfrm>
              <a:off x="2206800" y="3289320"/>
              <a:ext cx="1861920" cy="141912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7960" y="410256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251320" y="2633760"/>
            <a:ext cx="516240" cy="819000"/>
          </a:xfrm>
          <a:prstGeom prst="downArrow">
            <a:avLst>
              <a:gd name="adj1" fmla="val 50000"/>
              <a:gd name="adj2" fmla="val 39662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06800" y="4335480"/>
            <a:ext cx="1861920" cy="1419120"/>
            <a:chOff x="2206800" y="4335480"/>
            <a:chExt cx="1861920" cy="1419120"/>
          </a:xfrm>
        </p:grpSpPr>
        <p:sp>
          <p:nvSpPr>
            <p:cNvPr id="135" name=""/>
            <p:cNvSpPr/>
            <p:nvPr/>
          </p:nvSpPr>
          <p:spPr>
            <a:xfrm>
              <a:off x="2206800" y="4335480"/>
              <a:ext cx="1861920" cy="141912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87960" y="514872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06800" y="5438880"/>
            <a:ext cx="1861920" cy="1419120"/>
            <a:chOff x="2206800" y="5438880"/>
            <a:chExt cx="1861920" cy="1419120"/>
          </a:xfrm>
        </p:grpSpPr>
        <p:sp>
          <p:nvSpPr>
            <p:cNvPr id="138" name=""/>
            <p:cNvSpPr/>
            <p:nvPr/>
          </p:nvSpPr>
          <p:spPr>
            <a:xfrm>
              <a:off x="2206800" y="5438880"/>
              <a:ext cx="1861920" cy="141912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87960" y="625212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700440" y="2718360"/>
            <a:ext cx="3419640" cy="45972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hydration synthesi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ats store energy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ong HC chain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lar or non-polar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hydrophilic or hydrophobic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unction: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ergy storage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very rich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2x carbohydrat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ushion organ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sulates bod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ink whale blubber!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08160" y="1814400"/>
            <a:ext cx="1922760" cy="73512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84480" y="2247840"/>
            <a:ext cx="259092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352" t="46803" r="9442" b="9002"/>
          <a:stretch/>
        </p:blipFill>
        <p:spPr>
          <a:xfrm>
            <a:off x="4694400" y="3191040"/>
            <a:ext cx="4270320" cy="237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864560" y="3985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264280" y="500040"/>
            <a:ext cx="2411280" cy="1239840"/>
          </a:xfrm>
          <a:prstGeom prst="wedgeEllipseCallout">
            <a:avLst>
              <a:gd name="adj1" fmla="val 71726"/>
              <a:gd name="adj2" fmla="val -2746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Why do humans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like fatty foods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816520" y="4807080"/>
            <a:ext cx="2843280" cy="1893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aturated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 C bonded to H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 C=C double bon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ong, straight chain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st animal fat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olid at room temp.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ntributes to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ardiovascular diseas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(atherosclerosis)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= plaque deposit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683" r="52024" b="4872"/>
          <a:stretch/>
        </p:blipFill>
        <p:spPr>
          <a:xfrm>
            <a:off x="5502240" y="3038400"/>
            <a:ext cx="3513240" cy="3668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2" name="" descr=""/>
          <p:cNvPicPr/>
          <p:nvPr/>
        </p:nvPicPr>
        <p:blipFill>
          <a:blip r:embed="rId2"/>
          <a:srcRect l="23628" t="60008" r="27001" b="7504"/>
          <a:stretch/>
        </p:blipFill>
        <p:spPr>
          <a:xfrm>
            <a:off x="5370480" y="635040"/>
            <a:ext cx="377352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rcRect l="53555" t="2520" r="3600" b="5039"/>
          <a:stretch/>
        </p:blipFill>
        <p:spPr>
          <a:xfrm>
            <a:off x="5681520" y="2820960"/>
            <a:ext cx="3343320" cy="3867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Unsaturated fa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3120" y="1371600"/>
            <a:ext cx="7947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=C double bonds in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e fatty acid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lant &amp; fish fat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vegetable oi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iquid at room temperatur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he kinks made by double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onded C prevent th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olecules from packing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ightly togeth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31501" t="51000" r="27001" b="3000"/>
          <a:stretch/>
        </p:blipFill>
        <p:spPr>
          <a:xfrm>
            <a:off x="5719680" y="355680"/>
            <a:ext cx="2908440" cy="2417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 flipH="1">
            <a:off x="221760" y="556560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H="1">
            <a:off x="2154240" y="5479920"/>
            <a:ext cx="2548080" cy="1239840"/>
          </a:xfrm>
          <a:prstGeom prst="wedgeEllipseCallout">
            <a:avLst>
              <a:gd name="adj1" fmla="val 88254"/>
              <a:gd name="adj2" fmla="val -1466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mono-unsaturated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Comic Sans MS"/>
                <a:ea typeface="Geneva"/>
              </a:rPr>
              <a:t>poly-unsaturated?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alst</cp:lastModifiedBy>
  <cp:lastPrinted>2007-11-13T04:33:52Z</cp:lastPrinted>
  <dcterms:modified xsi:type="dcterms:W3CDTF">2009-12-08T13:13:55Z</dcterms:modified>
  <cp:revision>42</cp:revision>
  <dc:subject/>
  <dc:title>PowerPoint Presentation</dc:title>
</cp:coreProperties>
</file>